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66444-97DA-417C-B29A-44BA69CC8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2ED6B-E25E-4A04-97DA-D8D9BACFE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9AB18-A873-412B-A742-B507E8F33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1F276-0993-44B8-8FE8-0F65EC0F5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D7DD8-6C63-467E-BDD7-43B0E0C90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132B8-558F-450E-B581-1AFA9DE9B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BFBF5-8E67-4323-80DA-A7AC5C8C3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A9A9C-EE2C-40FF-917A-667464451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5C151-33C3-4633-865E-4D5085513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81ABC-5E1E-49C5-BB00-BB155E8BF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3160B-D07E-47F9-9EBE-07CBB9908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A5BD6-5304-4822-B267-3655147D0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1AB0A-8702-453F-A262-C7F7B2D19D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sson 1.7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ding and Subtracting Integ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59280" y="1992240"/>
            <a:ext cx="449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ective 1: Add and subtract integ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54880" y="3733920"/>
            <a:ext cx="411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Rock- Paper-Sciss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" dur="2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457200" y="380880"/>
            <a:ext cx="7924680" cy="521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533520"/>
            <a:ext cx="8229600" cy="255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y The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304920" y="1752480"/>
            <a:ext cx="8610480" cy="74304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2286000" y="2133720"/>
            <a:ext cx="4572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886200" y="2133720"/>
            <a:ext cx="30492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943600" y="2133720"/>
            <a:ext cx="38088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8229600" y="2057400"/>
            <a:ext cx="53352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6" dur="5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2" dur="5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8" dur="5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4" dur="5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228600" y="1905120"/>
            <a:ext cx="867564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80880" y="838080"/>
            <a:ext cx="7925040" cy="405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y The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8763120" cy="7779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362320" y="2209680"/>
            <a:ext cx="4572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486400" y="2209680"/>
            <a:ext cx="53352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8381880" y="2209680"/>
            <a:ext cx="45720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" dur="5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" dur="5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8381880" cy="27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y The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28600" y="1752480"/>
            <a:ext cx="8763120" cy="10335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2286000" y="2133720"/>
            <a:ext cx="38088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181480" y="2133720"/>
            <a:ext cx="38124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001000" y="2133720"/>
            <a:ext cx="38088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8" dur="5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4" dur="5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0" dur="5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8381880" cy="39513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820240" y="5029200"/>
            <a:ext cx="2235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Summari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33520" y="685800"/>
            <a:ext cx="8001000" cy="264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y The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04920" y="1828800"/>
            <a:ext cx="8381880" cy="6001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2438280" y="2133720"/>
            <a:ext cx="53352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876920" y="2133720"/>
            <a:ext cx="4572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772400" y="1828800"/>
            <a:ext cx="53352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6" dur="5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2" dur="5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8" dur="5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30T23:52:24Z</dcterms:created>
  <dc:creator>Graham</dc:creator>
  <dc:description/>
  <dc:language>en-US</dc:language>
  <cp:lastModifiedBy>Graham</cp:lastModifiedBy>
  <dcterms:modified xsi:type="dcterms:W3CDTF">2011-09-05T22:14:03Z</dcterms:modified>
  <cp:revision>2</cp:revision>
  <dc:subject/>
  <dc:title>Lesson 1.7 Adding and Subtracting Integers</dc:title>
</cp:coreProperties>
</file>